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2E4-33DA-4BDD-86A0-49A2D4AE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676-C319-4E17-B2D3-A23C3E89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160-B1AF-499A-A503-932B0D19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12E-CF50-44B1-9F55-97BD9BBD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730-B1CD-4263-BCCF-2389296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B8D-CCBB-423C-9281-5A3B50D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17D-60EC-4D0A-AEA1-4B224DC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20F-3EE9-4642-8809-E144863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113-26B9-456F-9571-63097D60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F52-2487-4A4C-AA43-37CFFCB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B2E-A238-4CE3-B478-78DC242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E88-AAD1-4DD7-A514-7EA53BD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9160-DDFF-4617-8121-CB5D33674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6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4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# 2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continuamos el repaso para la Prueba: Repaso C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74680"/>
          <a:ext cx="8381880" cy="621036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Escrib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. Te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. Necesi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5. V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. Estud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096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58000" y="1752480"/>
            <a:ext cx="1762200" cy="15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4572000"/>
            <a:ext cx="2209680" cy="151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724280" y="403848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162920" y="4724280"/>
            <a:ext cx="1614240" cy="1216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596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600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568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45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9760" y="6248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172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29080" cy="1630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3124440" cy="23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4081320"/>
            <a:ext cx="2514600" cy="173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2600" y="2286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440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781680" y="53352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48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1840" y="579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68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3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un sándwich de jamón y queso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___ la televisión en la sala. 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r. Gómez _________ la comida en el mercado. (comp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en un edificio.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Draw a floor plan of your house and label al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R17-R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45:49Z</dcterms:created>
  <dc:creator>Helen Zumaeta</dc:creator>
  <dc:description/>
  <dc:language>en-US</dc:language>
  <cp:lastModifiedBy>Helen Zumaeta</cp:lastModifiedBy>
  <dcterms:modified xsi:type="dcterms:W3CDTF">2013-01-14T20:31:16Z</dcterms:modified>
  <cp:revision>4</cp:revision>
  <dc:subject/>
  <dc:title>Me llamo __________ Clase 6nh (602) La fecha es el 2 de enero del 2013</dc:title>
</cp:coreProperties>
</file>